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F83-F5BF-4FBC-BB5C-62FF425F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FDB-28FA-4901-A052-09322A33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C9D-A46B-42E7-AD43-AFA45FA8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9FC-4DA7-4071-A6BD-100668AE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3EB-B7CC-48C1-8BA6-75EF592E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622-8780-459A-97F5-878CAA7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418-8A5E-43AC-857E-5F4CB7F3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F02-55C9-4BD8-9DE9-4D02CBD7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FD5-7D3B-4B86-9CBF-F65DFED1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1E7-7B5E-4284-B055-B0A19D6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4F5-642A-463C-B518-6DB0D55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52D-F3E3-4CF7-A790-F2B493D9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957-D28E-4832-8D67-A45570EBFAF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637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troduction to ETSI ES 201 91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836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581360"/>
            <a:ext cx="640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M-TE : Short Message Terminal Equip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M-SC : Short Message Service Cent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11280" y="1557360"/>
            <a:ext cx="7920000" cy="2158920"/>
            <a:chOff x="611280" y="1557360"/>
            <a:chExt cx="7920000" cy="2158920"/>
          </a:xfrm>
        </p:grpSpPr>
        <p:sp>
          <p:nvSpPr>
            <p:cNvPr id="45" name=""/>
            <p:cNvSpPr/>
            <p:nvPr/>
          </p:nvSpPr>
          <p:spPr>
            <a:xfrm>
              <a:off x="611280" y="2171520"/>
              <a:ext cx="115236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M-T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03400" y="2131920"/>
              <a:ext cx="1513080" cy="79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8720" y="1557360"/>
              <a:ext cx="3022560" cy="21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75480" y="2131920"/>
              <a:ext cx="1008000" cy="79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ateway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86760" y="2131920"/>
              <a:ext cx="1008000" cy="79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M-SC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0" name=""/>
            <p:cNvCxnSpPr>
              <a:stCxn id="48" idx="2"/>
              <a:endCxn id="49" idx="2"/>
            </p:cNvCxnSpPr>
            <p:nvPr/>
          </p:nvCxnSpPr>
          <p:spPr>
            <a:xfrm flipH="1" rot="16200000">
              <a:off x="7035120" y="2168640"/>
              <a:ext cx="2160" cy="1512000"/>
            </a:xfrm>
            <a:prstGeom prst="bentConnector3">
              <a:avLst>
                <a:gd name="adj1" fmla="val 143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5869080" y="3139920"/>
              <a:ext cx="244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AN connection or oth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52" name=""/>
            <p:cNvCxnSpPr>
              <a:stCxn id="45" idx="3"/>
              <a:endCxn id="46" idx="2"/>
            </p:cNvCxnSpPr>
            <p:nvPr/>
          </p:nvCxnSpPr>
          <p:spPr>
            <a:xfrm flipV="1">
              <a:off x="1763640" y="2528280"/>
              <a:ext cx="114048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3" name=""/>
            <p:cNvCxnSpPr>
              <a:stCxn id="46" idx="6"/>
              <a:endCxn id="48" idx="1"/>
            </p:cNvCxnSpPr>
            <p:nvPr/>
          </p:nvCxnSpPr>
          <p:spPr>
            <a:xfrm>
              <a:off x="4416120" y="2528280"/>
              <a:ext cx="135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1692360" y="177300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STN or ISD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84720" y="17730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SDN, SS7 or oth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63640" y="2707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rovid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alling Lin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dentity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84720" y="270180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rovid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alling Lin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dentity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88000" y="169992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M-S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91000" y="882720"/>
            <a:ext cx="7347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SMS Protocol Stack : Consists of 3 layer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1. Transfer Layer 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SI TS 100 901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(GSM 03.40)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SI TS 100 94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(GSM 04.1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2. Data Link Layer 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SI ES 201 9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3. Physical Layer 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 300 659-2(FSK TX), ETS EN 300 778-2(FSK RX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578160" y="0"/>
            <a:ext cx="4043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체"/>
              </a:rPr>
              <a:t>2.  SMS PROTOCOL ARCHITECT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58960" y="2982960"/>
            <a:ext cx="6881760" cy="3173040"/>
            <a:chOff x="858960" y="2982960"/>
            <a:chExt cx="6881760" cy="3173040"/>
          </a:xfrm>
        </p:grpSpPr>
        <p:sp>
          <p:nvSpPr>
            <p:cNvPr id="62" name=""/>
            <p:cNvSpPr/>
            <p:nvPr/>
          </p:nvSpPr>
          <p:spPr>
            <a:xfrm>
              <a:off x="1332000" y="3341520"/>
              <a:ext cx="936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  <a:ea typeface="바탕체"/>
                </a:rPr>
                <a:t>SM-T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72360" y="3341520"/>
              <a:ext cx="9111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  <a:ea typeface="바탕체"/>
                </a:rPr>
                <a:t>SM-SC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58960" y="3773520"/>
              <a:ext cx="1844640" cy="1029240"/>
              <a:chOff x="858960" y="3773520"/>
              <a:chExt cx="1844640" cy="1029240"/>
            </a:xfrm>
          </p:grpSpPr>
          <p:sp>
            <p:nvSpPr>
              <p:cNvPr id="65" name=""/>
              <p:cNvSpPr/>
              <p:nvPr/>
            </p:nvSpPr>
            <p:spPr>
              <a:xfrm>
                <a:off x="858960" y="4465440"/>
                <a:ext cx="184464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Physical Layer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58960" y="4119480"/>
                <a:ext cx="184464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Data Link Layer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8960" y="3773520"/>
                <a:ext cx="184464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ransfer Layer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902200" y="3780000"/>
              <a:ext cx="1838520" cy="1029240"/>
              <a:chOff x="5902200" y="3780000"/>
              <a:chExt cx="1838520" cy="1029240"/>
            </a:xfrm>
          </p:grpSpPr>
          <p:sp>
            <p:nvSpPr>
              <p:cNvPr id="69" name=""/>
              <p:cNvSpPr/>
              <p:nvPr/>
            </p:nvSpPr>
            <p:spPr>
              <a:xfrm>
                <a:off x="5902200" y="4471920"/>
                <a:ext cx="18385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Physical Layer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02200" y="4125960"/>
                <a:ext cx="18385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Data Link Layer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02200" y="3780000"/>
                <a:ext cx="18385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ransfer Layer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cxnSp>
          <p:nvCxnSpPr>
            <p:cNvPr id="72" name=""/>
            <p:cNvCxnSpPr>
              <a:stCxn id="67" idx="3"/>
              <a:endCxn id="71" idx="1"/>
            </p:cNvCxnSpPr>
            <p:nvPr/>
          </p:nvCxnSpPr>
          <p:spPr>
            <a:xfrm>
              <a:off x="2703240" y="3946320"/>
              <a:ext cx="31993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66" idx="3"/>
              <a:endCxn id="70" idx="1"/>
            </p:cNvCxnSpPr>
            <p:nvPr/>
          </p:nvCxnSpPr>
          <p:spPr>
            <a:xfrm>
              <a:off x="2703240" y="4292640"/>
              <a:ext cx="31993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2916360" y="2982960"/>
              <a:ext cx="2808000" cy="259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75" name=""/>
            <p:cNvCxnSpPr>
              <a:stCxn id="65" idx="3"/>
              <a:endCxn id="69" idx="1"/>
            </p:cNvCxnSpPr>
            <p:nvPr/>
          </p:nvCxnSpPr>
          <p:spPr>
            <a:xfrm>
              <a:off x="2703240" y="4638600"/>
              <a:ext cx="31993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012000" y="5575320"/>
              <a:ext cx="1581120" cy="5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1684" y="-34755"/>
                  </a:moveTo>
                  <a:lnTo>
                    <a:pt x="-1041" y="4000"/>
                  </a:lnTo>
                </a:path>
                <a:path w="21600" h="21600">
                  <a:moveTo>
                    <a:pt x="-1041" y="0"/>
                  </a:moveTo>
                  <a:lnTo>
                    <a:pt x="-1041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FSK signaling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(voice band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2349360"/>
            <a:ext cx="772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ming diagram for a SM-TE originated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M submission :SM transfer from SM-TE to SM-S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765000"/>
            <a:ext cx="8381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  <a:ea typeface="바탕"/>
              </a:rPr>
              <a:t>Physical Layer 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- Bi-directional voice band signal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- Half Duple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  <a:ea typeface="바탕"/>
              </a:rPr>
              <a:t>- 1200baud FSK modul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856800" y="39600"/>
            <a:ext cx="613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SMS PROTOCOL ARCHITECTURE (PHYSICAL LAY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19320" y="3141720"/>
            <a:ext cx="6629400" cy="2076120"/>
            <a:chOff x="1219320" y="3141720"/>
            <a:chExt cx="6629400" cy="2076120"/>
          </a:xfrm>
        </p:grpSpPr>
        <p:sp>
          <p:nvSpPr>
            <p:cNvPr id="81" name=""/>
            <p:cNvSpPr/>
            <p:nvPr/>
          </p:nvSpPr>
          <p:spPr>
            <a:xfrm>
              <a:off x="2362320" y="3902040"/>
              <a:ext cx="16002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FSK Fram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3902040"/>
              <a:ext cx="16002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econ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FSK Fram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19320" y="39020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4740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2520" y="4740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05520" y="4740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4130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62520" y="4130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9320" y="4832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520" y="4832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4130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2080" y="4913280"/>
              <a:ext cx="761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10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Verdana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54400" y="491652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11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Verdana"/>
                </a:rPr>
                <a:t>mi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6360" y="3141720"/>
              <a:ext cx="193968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842" y="35227"/>
                  </a:moveTo>
                  <a:lnTo>
                    <a:pt x="-848" y="4000"/>
                  </a:lnTo>
                </a:path>
                <a:path w="21600" h="21600">
                  <a:moveTo>
                    <a:pt x="-848" y="0"/>
                  </a:moveTo>
                  <a:lnTo>
                    <a:pt x="-848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L-SMS-EST(…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generated by SM-TE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96000" y="3141720"/>
              <a:ext cx="194004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841" y="35227"/>
                  </a:moveTo>
                  <a:lnTo>
                    <a:pt x="-848" y="4000"/>
                  </a:lnTo>
                </a:path>
                <a:path w="21600" h="21600">
                  <a:moveTo>
                    <a:pt x="-848" y="0"/>
                  </a:moveTo>
                  <a:lnTo>
                    <a:pt x="-848" y="21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L-SMS-DATA(…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generated by SM-SC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42920" y="5373720"/>
            <a:ext cx="576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10min = </a:t>
            </a:r>
            <a:r>
              <a:rPr b="0" i="1" lang="ko-KR" sz="1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x 100 ms; </a:t>
            </a:r>
            <a:r>
              <a:rPr b="0" i="1" lang="ko-KR" sz="1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= 1..25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11min = 100 ms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cho-suppressors or echo-cancellers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53200" y="39600"/>
            <a:ext cx="6262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SMS PROTOCOL ARCHITECTURE (DATA LINK LAY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357720"/>
            <a:ext cx="8218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Mark signal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- consists of a block of 80 mark bi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 25 mark bi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to synchronize the FSK receiver of the receiving entity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2. Message Type (1 octet)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- contains a binary encoded value to identify the message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체"/>
              </a:rPr>
              <a:t>- Most significant bit is used as extension bit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굴림체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2060640"/>
            <a:ext cx="7700400" cy="1114200"/>
            <a:chOff x="539640" y="2060640"/>
            <a:chExt cx="7700400" cy="1114200"/>
          </a:xfrm>
        </p:grpSpPr>
        <p:grpSp>
          <p:nvGrpSpPr>
            <p:cNvPr id="100" name=""/>
            <p:cNvGrpSpPr/>
            <p:nvPr/>
          </p:nvGrpSpPr>
          <p:grpSpPr>
            <a:xfrm>
              <a:off x="539640" y="2565360"/>
              <a:ext cx="7700400" cy="609480"/>
              <a:chOff x="539640" y="2565360"/>
              <a:chExt cx="770040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539640" y="2565360"/>
                <a:ext cx="769608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1880" y="2674800"/>
                <a:ext cx="567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Mark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Signal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5400" y="2565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09600" y="2565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68360" y="2681280"/>
                <a:ext cx="730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Messag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  </a:t>
                </a: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Typ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22280" y="2685960"/>
                <a:ext cx="730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Messag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Length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06360" y="2565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7800" y="2727000"/>
                <a:ext cx="273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2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Payload (Transfer Layer Message)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71880" y="25653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35600" y="2681280"/>
                <a:ext cx="604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Check-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 </a:t>
                </a:r>
                <a:r>
                  <a:rPr b="1" lang="ko-KR" sz="1000" spc="-1" strike="noStrike">
                    <a:solidFill>
                      <a:srgbClr val="000000"/>
                    </a:solidFill>
                    <a:latin typeface="Verdana"/>
                    <a:ea typeface="굴림체"/>
                  </a:rPr>
                  <a:t>sum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41080" y="2060640"/>
              <a:ext cx="53287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바탕"/>
                </a:rPr>
                <a:t>Data Link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굴림체"/>
                </a:rPr>
                <a:t>Layer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바탕"/>
                </a:rPr>
                <a:t> Message structu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6400" y="692280"/>
            <a:ext cx="80679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DATA LINK LAYER 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SM-DLL provides a service to the Short Message Transfer Layer (SM-TL)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Responsible for bit error detection, for prepending the Mark sign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Controls the response time of peer entit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56000" y="907920"/>
            <a:ext cx="304560" cy="19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692280"/>
          <a:ext cx="5880240" cy="2128680"/>
        </p:xfrm>
        <a:graphic>
          <a:graphicData uri="http://schemas.openxmlformats.org/drawingml/2006/table">
            <a:tbl>
              <a:tblPr/>
              <a:tblGrid>
                <a:gridCol w="1373400"/>
                <a:gridCol w="677880"/>
                <a:gridCol w="936360"/>
                <a:gridCol w="28926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sage 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L_SMS_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/11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01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ies SM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L_SMS_ERR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/12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10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es that a DLL error has occurred. See Error Handlin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L_SMS_E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/13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011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es that the DLL connection has been establish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L_SMS_R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/14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100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es the release of the DLL connec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L_SMS_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/15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101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ies a positive SM acknowledgemen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LL_SMS_N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/16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10110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ies a negative SM acknowledgemen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16720" y="763560"/>
            <a:ext cx="24843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Extension b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0” : Payload of Transf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Layer Segment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체"/>
              </a:rPr>
              <a:t>1” : Non-segmen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853200" y="39600"/>
            <a:ext cx="6262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SMS PROTOCOL ARCHITECTURE (DATA LINK LAY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1300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. Message Length (1 octet)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the binary encoded number of octets (excluding the message type, message length and checksum octe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The maximum message length is 176 octet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. Checksum octet (1 octet)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wo's complement of the modulo 256 sum of all the octets in the messa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rting from the message type octet up to the end of the message (excluding the checksum itself)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907920"/>
            <a:ext cx="899172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. Error case : a wrong checksum, an unknown message type etc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Message type : DLL_SMS_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바탕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ata Link Layer of the sending entity has to repeat the last message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message is confirmed negative for two times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nection shall be released by both entitie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853200" y="39600"/>
            <a:ext cx="6262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SMS PROTOCOL ARCHITECTURE (DATA LINK LAY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3645000"/>
          <a:ext cx="6985080" cy="1819080"/>
        </p:xfrm>
        <a:graphic>
          <a:graphicData uri="http://schemas.openxmlformats.org/drawingml/2006/table">
            <a:tbl>
              <a:tblPr/>
              <a:tblGrid>
                <a:gridCol w="2736720"/>
                <a:gridCol w="424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 Code(bina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 0001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rong check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 0010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rong messag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 0011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known messag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 0100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sion mechanism not suppor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1 1111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specified error ca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609480"/>
            <a:ext cx="92203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2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FER LAYER 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M-TL provides a service to the Short Message Application Layer (SM-A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TSI document TS 100 901 (GSM 03.4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The maximum message length of SM-TL is 176 octe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857160" y="39600"/>
            <a:ext cx="6186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  SMS PROTOCOL ARCHITECTURE (TRANSFER LAY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60360" y="2205000"/>
            <a:ext cx="853272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Verdana"/>
              </a:rPr>
              <a:t>PDU Type of SM-TL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. SMS-DELIVER : a SM(short message) from SC(service centre) to the MS(mobile sta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2. SMS-DELIVER-REPORT : a failure cause(if necessary), ACK or NACK to an SMS-DELI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3. SMS-SUBMIT : conveying a SM from MS to the S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4. SMS-SUBMIT-REPORT : a failure cause(if necessary), ACK or NACK to an SMS-SUBM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5. SMS-STATUS-REPORT : conveying a status report from SC to the M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6. SMS-COMMAND : conveying a command from the MS to the S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7:53:12Z</dcterms:created>
  <dc:creator>JEONGWON SUH</dc:creator>
  <dc:description/>
  <dc:language>en-US</dc:language>
  <cp:lastModifiedBy>JEONGWON SUH</cp:lastModifiedBy>
  <dcterms:modified xsi:type="dcterms:W3CDTF">2006-11-14T07:53:57Z</dcterms:modified>
  <cp:revision>1</cp:revision>
  <dc:subject/>
  <dc:title>슬라이드 1</dc:title>
</cp:coreProperties>
</file>